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png" ContentType="image/png"/>
  <Override PartName="/ppt/media/image21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19.png" ContentType="image/png"/>
  <Override PartName="/ppt/media/image20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33.jpeg" ContentType="image/jpeg"/>
  <Override PartName="/ppt/media/image34.png" ContentType="image/png"/>
  <Override PartName="/ppt/media/image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3.png" ContentType="image/png"/>
  <Override PartName="/ppt/media/image26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BAF-2BE8-4637-8376-DBB37544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C8D4-F794-403E-8D3A-A6F04768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0EC16-A1D3-442A-8B4E-E085BBE3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4B8F4-9ECA-43A4-9595-C6C4BE33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9BE49-217B-40CD-B3BE-777E9421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0ACEC-2D5F-453E-B980-3149FFAD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107C8-BE61-4BDB-8A45-958D0C2C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BFA3D-497A-4565-B789-46EDAA48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6A529-9553-4C66-8EF7-B0F6A4DC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50126-B9CE-4B82-BF9C-442CF980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DDFCD-4489-406C-A77C-641D0919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194-B504-4470-9DF1-2511EA0A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F79-A200-4E8D-ACA0-0B14830C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7BCC-16B2-4FF9-A16A-78324E07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94B6-FD68-4331-A0DC-20A4EC32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C77D-1746-4937-9B5C-99A6E3AC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3D9C-C362-487D-BED0-66AFC128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1D91-54AA-44E7-913C-1F1510D8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627A-834A-4359-8773-1B790E0E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5A87-41C9-4FB2-AB08-2EA1838A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A4C-EF5D-4DA7-B4C3-82F848AC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3C0C-9BC5-408A-951F-73B6641F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5A60-523E-40F7-ABEC-0C17C9D6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4575-5EA0-403B-A67A-61D0B315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9495-355B-4AFD-9852-78666040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911A-AE82-46FE-8295-659BDD00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685B3-E776-42FC-91EA-0F5FB1B3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C1CFA-321B-4348-B4E6-F7412C6B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EDFA3-BD45-4580-A056-6A57EA2C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F045D-9442-44CF-9764-5C302A56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D5996-5BC9-4E99-A309-180CFE19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63B-2775-435B-9B07-41F2FFAE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CB98-25B8-47BA-B95E-EB126D27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FEAF6-AFCF-4C99-B723-91CE1A81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A5830-74F2-498E-833B-90024864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F1EC2-9C5E-440D-B89E-46B054D3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7B35-470F-4461-89CA-D26DDA09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5683E-4655-4F55-9E7D-AA4071AB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7F077-6216-4D92-AE04-831A3B1F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CE58F-1EE7-4ACD-88F3-00B996C1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B2E13-7EFE-4280-97FA-96705F4E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CF4FF-83C0-4B16-9405-7B948F3C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D99-7D54-4433-A00D-06EC556B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AAD9F-31C0-425A-91C4-3BC27D79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D276F-6A80-487C-B6B0-FE9B615E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A52DF-45EF-4740-BC55-DB4944BC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5B253-4868-4CA8-9BAC-6A2EFBF4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9B086-46A9-4E67-9B00-0D08B06B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D823-DC3D-4CBE-B7A8-C6418ADA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77CF7-AD6C-4949-BB9F-3ACA4077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C723D-FB4F-4A55-9091-D08966B6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24C44-5C95-4859-922B-876F1FAD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6B7FA-FA65-4D05-A205-F1CF9D2B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373-82E6-41AA-9F39-EA8BBE0A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A5961-4975-49F6-A6FD-F853057C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52475-B400-4869-BE8F-0766C1AF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AE23A-BA59-4BBE-8C46-CCE51DDA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5D323-E528-4A28-B2EC-C16F1BCB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9F51E-9049-472C-AAE0-85C15053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4133C-8CF2-489B-97B8-19A2BB31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2F41C-2513-4581-92B9-7AEF59D5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E73E1-EB77-4604-838C-1AC4BC3C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C6C88-07C6-4DC3-8971-FFA1D3AB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672AD-0B42-4EBB-9326-CCE27C7A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BCA-240F-4DB9-AD43-F46CD5F1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E4F58-0E12-4FF4-86DF-5C03038A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C0B87-7264-4BCC-BB6E-D4F9E01C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D9F2A-4363-438D-A451-B3645D76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262B9-3802-4A05-A49E-B2DB529D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E1E0F-C8D6-4853-856D-9BA6783A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AF70E-F373-4054-8E5E-4014017D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67D65-D46C-49F9-9988-753060B7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6F3CD-DD16-4B8E-8BD7-0A88CA76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508BE-A191-497B-A0CF-F6833C1C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0B63B-DD48-43B4-B1E4-C6958121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DA2-40A9-45A6-9D31-B0F14586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EB3A9-77F0-441E-9544-B39C3520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36C99-B672-485F-B231-8070FF11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D1BEA-72B4-4CAA-A437-F1282EDF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88EA1-23F2-4254-BD64-AF8CEB7B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12DC2-16D4-4941-AED1-EA307645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A67DE-F26F-4A1B-AE02-E32596AE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5DC6E-805E-46EA-B8D5-B6991B3E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C0FB5-1CB7-4801-9CBB-0EC926F4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79F00-7D42-43D7-98C1-10A5DAA9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7A7BD-C5FA-47DC-8A59-8758F00B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BDE-AF52-47C0-9218-C148D337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D6366-6BBC-4C35-A366-13F2810A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5D81E-E60C-40C3-B4F9-388A20AB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AE404-2FED-4103-9EE7-9C8806DB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4ABB8-0846-4E7F-94CA-7FBA2164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17F4C-DA78-4C68-A9C9-1D060A06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0DB0A-0EFA-4F23-9BFF-CA0B7325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5F5D5-B3DA-4C31-8DF9-4E3060E7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0B487-B9B2-4DE6-B685-E6A51D8F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74225-6B7D-4F3D-9805-2685F135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1DCAF-1A1F-45F5-9BBB-0BF18721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C37-877E-48C4-A570-F7C1DD9E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04B2C-14B2-4C90-8A39-91C15137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EAEBD-3C8E-49CF-B882-AE55148B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D1D87-03E1-4479-A35C-436400DD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0C3C3-84D2-4437-94ED-2A6C8018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8643B-66A5-446F-AC59-A1CF8A47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6E536-3052-4A53-9D48-642EC8B5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1C5EE-0F4D-48C5-9E4F-170AE6AA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A41E7-C002-4296-92DB-98A44D3C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D0D1F-04D7-473E-8C74-27F9083C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26FF7-5B1B-4B17-8769-46584FBA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E62E-81B7-4E31-994B-A5EC9BD8469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443F-69CC-4344-A9C0-AD496F9523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41E0-D8A9-410A-8B01-A455CC5EDC5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4CA3-D742-423D-90A3-84A4BC40EF9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3669-0D9F-456C-84D4-E5C838EE97C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1399-E283-40CA-AB39-ADF4D38BB6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E50B-1612-4940-973E-61B7C36C10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0161-EF9C-474A-AC25-E7E2DC90F3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5176-7D15-4358-8C22-786B7F5763B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4.xm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46160" y="-6480"/>
            <a:ext cx="8474040" cy="52675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85440" y="57913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Выполнила студентка 643 гр. Пашинковлят О.В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По программе Шпикаловой Т.Я «Изобразительное искусство» 4 кл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4" descr=""/>
          <p:cNvPicPr/>
          <p:nvPr/>
        </p:nvPicPr>
        <p:blipFill>
          <a:blip r:embed="rId1"/>
          <a:stretch/>
        </p:blipFill>
        <p:spPr>
          <a:xfrm>
            <a:off x="450720" y="5383080"/>
            <a:ext cx="8474040" cy="998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Наносим цвет на оставшиеся элементы – листик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2" descr="Гордецкая роспись1-4"/>
          <p:cNvPicPr/>
          <p:nvPr/>
        </p:nvPicPr>
        <p:blipFill>
          <a:blip r:embed="rId2"/>
          <a:stretch/>
        </p:blipFill>
        <p:spPr>
          <a:xfrm>
            <a:off x="4708440" y="609480"/>
            <a:ext cx="3073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450720" y="5383080"/>
            <a:ext cx="8474040" cy="9986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Наша роспись состоит из трех основных элементов городецкой росписи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Купав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Городецкая роз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Листик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На этом этапе мы начинаем прорисовывать черты этих элемент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2" descr="Гордецкая роспись1-5"/>
          <p:cNvPicPr/>
          <p:nvPr/>
        </p:nvPicPr>
        <p:blipFill>
          <a:blip r:embed="rId2"/>
          <a:stretch/>
        </p:blipFill>
        <p:spPr>
          <a:xfrm>
            <a:off x="4705200" y="609480"/>
            <a:ext cx="3079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Гордецкая роспись1-6"/>
          <p:cNvPicPr/>
          <p:nvPr/>
        </p:nvPicPr>
        <p:blipFill>
          <a:blip r:embed="rId2"/>
          <a:stretch/>
        </p:blipFill>
        <p:spPr>
          <a:xfrm>
            <a:off x="3203640" y="1554120"/>
            <a:ext cx="288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Гордецкая роспись1-7"/>
          <p:cNvPicPr/>
          <p:nvPr/>
        </p:nvPicPr>
        <p:blipFill>
          <a:blip r:embed="rId2"/>
          <a:stretch/>
        </p:blipFill>
        <p:spPr>
          <a:xfrm>
            <a:off x="2819520" y="1143000"/>
            <a:ext cx="328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очность выполнения элемен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ккуратность (на рисунке не должно быть помарок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6" name="Рисунок 3" descr="s7960541.jpg"/>
          <p:cNvPicPr/>
          <p:nvPr/>
        </p:nvPicPr>
        <p:blipFill>
          <a:blip r:embed="rId2"/>
          <a:stretch/>
        </p:blipFill>
        <p:spPr>
          <a:xfrm>
            <a:off x="4800600" y="3352680"/>
            <a:ext cx="38098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Шпикалова Т.Я «Изобразительное искусство» 4 к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тодические разработки Шпикалова Т.Я. «Изобразительное искусство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Городецкая роспись держит свое начало от резных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2" action="ppaction://hlinksldjump"/>
              </a:rPr>
              <a:t> городецких прялок,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имевших свою особенность: гребень и донце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озже мастера для изобразительного богатства стали применять подкраску, яркое сочетание желтого цвета с темным дубом, добавление синего, зеленого, красного цветов делало донце еще более нарядным и красочным. Известным мастером инкрустированных донец с подкраской был Л. В. Мельников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Городецкие мотивы — сцены городской жизн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еобходимость увеличить производство прядильных донец натолкнуло мастеров на мысль упростить технику декоративного оформления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Содержимое 3" descr="прялка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1295280"/>
            <a:ext cx="1904760" cy="421956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4" descr="прялка 2.jpg"/>
          <p:cNvPicPr/>
          <p:nvPr/>
        </p:nvPicPr>
        <p:blipFill>
          <a:blip r:embed="rId3"/>
          <a:stretch/>
        </p:blipFill>
        <p:spPr>
          <a:xfrm>
            <a:off x="6705720" y="1295280"/>
            <a:ext cx="1847880" cy="3429000"/>
          </a:xfrm>
          <a:prstGeom prst="rect">
            <a:avLst/>
          </a:prstGeom>
          <a:ln w="0">
            <a:noFill/>
          </a:ln>
        </p:spPr>
      </p:pic>
      <p:pic>
        <p:nvPicPr>
          <p:cNvPr id="405" name="Заголовок 1" descr=""/>
          <p:cNvPicPr/>
          <p:nvPr/>
        </p:nvPicPr>
        <p:blipFill>
          <a:blip r:embed="rId4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5" descr="dekorativnaya_doska_20381163_1_F.jpg"/>
          <p:cNvPicPr/>
          <p:nvPr/>
        </p:nvPicPr>
        <p:blipFill>
          <a:blip r:embed="rId5"/>
          <a:stretch/>
        </p:blipFill>
        <p:spPr>
          <a:xfrm>
            <a:off x="3200400" y="2590920"/>
            <a:ext cx="28195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Городецкий стиль отличается прежде всего содержательностью. В росписях основное впечатление дают </a:t>
            </a:r>
            <a:r>
              <a:rPr b="0" lang="ru-RU" sz="1600" spc="-1" strike="noStrike" u="sng">
                <a:solidFill>
                  <a:srgbClr val="ad1f1f"/>
                </a:solidFill>
                <a:uFillTx/>
                <a:latin typeface="Franklin Gothic Book"/>
                <a:hlinkClick r:id="rId2" action="ppaction://hlinksldjump"/>
              </a:rPr>
              <a:t>жанровые сцены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. Это — быт крестьянства, купечества, пышный парад костюмов. Значительное место занимают цветочные мотивы — пышные «розаны», писанные широко и декоративно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Встречаются экзотические львы и барсы. Особенно часто изображение горячего, сильного коня или петуха в гордой, воинственной позе. Чаще всего это парные изображения, геральдически обращенные друг к другу. Городецкий мастер росписи любит цветы. Они всюду разбросаны на поле росписей веселыми гирляндами и букетами. Декоративность мотивов подчеркивается декоративностью цвета и приемов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Любимые фоны — ярко-зеленый или напряженный красный, глубокий синий, иногда черный, на котором особенно сочно расплескивается многоцветие Городецкого колорита. В характеристике сюжета разбелённые тона дают богатые оттенки цветовых переходов. Роспись ведется кистью, без предварительного рисунка, свободным и сочным ударом. Он очень разнообразен — от широкого мазка до тончайшей линии и виртуозного штриха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Камаринская.wma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693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1" name="Содержимое 3" descr="Gorodezkaya rospis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4920" y="1371600"/>
            <a:ext cx="3152520" cy="205740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4" descr="g11.jpg"/>
          <p:cNvPicPr/>
          <p:nvPr/>
        </p:nvPicPr>
        <p:blipFill>
          <a:blip r:embed="rId4"/>
          <a:stretch/>
        </p:blipFill>
        <p:spPr>
          <a:xfrm>
            <a:off x="5638680" y="1219320"/>
            <a:ext cx="2971800" cy="408600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5" descr="5-1.jpg"/>
          <p:cNvPicPr/>
          <p:nvPr/>
        </p:nvPicPr>
        <p:blipFill>
          <a:blip r:embed="rId5"/>
          <a:stretch/>
        </p:blipFill>
        <p:spPr>
          <a:xfrm>
            <a:off x="2286000" y="3809880"/>
            <a:ext cx="27637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3" descr="959.jpg"/>
          <p:cNvPicPr/>
          <p:nvPr/>
        </p:nvPicPr>
        <p:blipFill>
          <a:blip r:embed="rId2"/>
          <a:stretch/>
        </p:blipFill>
        <p:spPr>
          <a:xfrm>
            <a:off x="1752480" y="1066680"/>
            <a:ext cx="4724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Гордецкая роспись1-"/>
          <p:cNvPicPr/>
          <p:nvPr/>
        </p:nvPicPr>
        <p:blipFill>
          <a:blip r:embed="rId2"/>
          <a:stretch/>
        </p:blipFill>
        <p:spPr>
          <a:xfrm>
            <a:off x="2514600" y="1066680"/>
            <a:ext cx="358632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0720" y="5383080"/>
            <a:ext cx="8474040" cy="99864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Наносим простым карандашом рисунок на заранее подготовленную поверхность. Рисунок должен быть продуман заране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Если это деревянная доска, то она должна быть отшлифован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icture 2" descr="Гордецкая роспись1-2"/>
          <p:cNvPicPr/>
          <p:nvPr/>
        </p:nvPicPr>
        <p:blipFill>
          <a:blip r:embed="rId2"/>
          <a:stretch/>
        </p:blipFill>
        <p:spPr>
          <a:xfrm>
            <a:off x="4687920" y="609480"/>
            <a:ext cx="3114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50720" y="5383080"/>
            <a:ext cx="8474040" cy="9986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Нанесение цвета на основные центральные элементы </a:t>
            </a:r>
            <a:r>
              <a:rPr b="1" lang="ru-RU" sz="3200" spc="-1" strike="noStrike">
                <a:solidFill>
                  <a:srgbClr val="7030a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Picture 2" descr="Гордецкая роспись1-3"/>
          <p:cNvPicPr/>
          <p:nvPr/>
        </p:nvPicPr>
        <p:blipFill>
          <a:blip r:embed="rId2"/>
          <a:stretch/>
        </p:blipFill>
        <p:spPr>
          <a:xfrm>
            <a:off x="4702320" y="609480"/>
            <a:ext cx="3085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1-06-10T07:56:5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